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9512-33FA-4559-8962-F768851B0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05E1-5D62-44FA-9F93-5B5AA596A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B666-933B-4E34-8A6A-C089F6D39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1801-9E16-466E-B9A7-A76CC2CBB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ED3D-674E-4882-816A-8679D67E2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862F-AC4D-4BD2-B33D-818316FD4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2E91-8D28-46AB-97EC-21CE3FE9B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1B64-A60D-4597-9E11-471D36899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0A1F-73FF-4686-B8C1-FC6521127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5FF4-6389-4C4A-945B-D06A922F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49A2-84C1-49FB-89E5-05F0C699D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8A81-8625-44F2-93D0-1B73DFD03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DB316-9F6B-482D-8A22-092B184050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120828BWPsejpKHE_ph" descr=""/>
          <p:cNvPicPr/>
          <p:nvPr/>
        </p:nvPicPr>
        <p:blipFill>
          <a:blip r:embed="rId1"/>
          <a:stretch/>
        </p:blipFill>
        <p:spPr>
          <a:xfrm>
            <a:off x="-533520" y="-57240"/>
            <a:ext cx="9677520" cy="6915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543800" y="117360"/>
            <a:ext cx="16923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ربي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أ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ورقةٌ بيضاء أرسم عليه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كل ما تشاء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565280"/>
            <a:ext cx="1158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533520"/>
            <a:ext cx="1311120" cy="80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ربي</a:t>
            </a:r>
            <a:r>
              <a:rPr b="1" lang="en-US" sz="40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أنا ورقةٌ بيضاء أرسم عليها كل ما تشا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793880"/>
            <a:ext cx="100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10056642" descr=""/>
          <p:cNvPicPr/>
          <p:nvPr/>
        </p:nvPicPr>
        <p:blipFill>
          <a:blip r:embed="rId1"/>
          <a:stretch/>
        </p:blipFill>
        <p:spPr>
          <a:xfrm>
            <a:off x="88920" y="0"/>
            <a:ext cx="6159600" cy="74674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934320" y="1066680"/>
            <a:ext cx="1600200" cy="6188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إني الشِّراع وأنت الري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هيا ارحل بي حيثما تشاء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2120828BWPsejpKHE_ph" descr=""/>
          <p:cNvPicPr/>
          <p:nvPr/>
        </p:nvPicPr>
        <p:blipFill>
          <a:blip r:embed="rId1"/>
          <a:stretch/>
        </p:blipFill>
        <p:spPr>
          <a:xfrm>
            <a:off x="-533520" y="-57240"/>
            <a:ext cx="9677520" cy="6915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543800" y="117360"/>
            <a:ext cx="16923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ربي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أ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ورقةٌ بيضاء أرسم عليه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كل ما تشاء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565280"/>
            <a:ext cx="1158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33520"/>
            <a:ext cx="1311120" cy="80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ربي</a:t>
            </a:r>
            <a:r>
              <a:rPr b="1" lang="en-US" sz="40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أنا ورقةٌ بيضاء أرسم عليها كل ما تشا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793880"/>
            <a:ext cx="100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28759276TYylZkDPEd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228600"/>
            <a:ext cx="861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ffff"/>
                </a:solidFill>
                <a:latin typeface="Times New Roman"/>
                <a:cs typeface="Simplified Arabic"/>
              </a:rPr>
              <a:t>إني اليراع وأنت الفكر</a:t>
            </a:r>
            <a:r>
              <a:rPr b="1" lang="en-US" sz="4000" spc="-1" strike="noStrike">
                <a:solidFill>
                  <a:srgbClr val="ccffff"/>
                </a:solidFill>
                <a:latin typeface="Times New Roman"/>
                <a:ea typeface="Simplified Arabic"/>
              </a:rPr>
              <a:t> </a:t>
            </a:r>
            <a:r>
              <a:rPr b="1" lang="ar-SA" sz="4000" spc="-1" strike="noStrike">
                <a:solidFill>
                  <a:srgbClr val="ccffff"/>
                </a:solidFill>
                <a:latin typeface="Times New Roman"/>
                <a:cs typeface="Times New Roman"/>
              </a:rPr>
              <a:t>هيا اكتب بي كيفما تشاء</a:t>
            </a:r>
            <a:r>
              <a:rPr b="0" lang="ar-SA" sz="4000" spc="-1" strike="noStrike">
                <a:solidFill>
                  <a:srgbClr val="ccffff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2120828BWPsejpKHE_ph" descr=""/>
          <p:cNvPicPr/>
          <p:nvPr/>
        </p:nvPicPr>
        <p:blipFill>
          <a:blip r:embed="rId1"/>
          <a:stretch/>
        </p:blipFill>
        <p:spPr>
          <a:xfrm>
            <a:off x="-533520" y="-57240"/>
            <a:ext cx="9677520" cy="6915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543800" y="117360"/>
            <a:ext cx="16923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ربي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أ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ورقةٌ بيضاء أرسم عليه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كل ما تشاء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565280"/>
            <a:ext cx="1158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533520"/>
            <a:ext cx="1311120" cy="80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ربي</a:t>
            </a:r>
            <a:r>
              <a:rPr b="1" lang="en-US" sz="40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أنا ورقةٌ بيضاء أرسم عليها كل ما تشا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793880"/>
            <a:ext cx="100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28759592UQcUqtBtCr_ph" descr=""/>
          <p:cNvPicPr/>
          <p:nvPr/>
        </p:nvPicPr>
        <p:blipFill>
          <a:blip r:embed="rId1"/>
          <a:stretch/>
        </p:blipFill>
        <p:spPr>
          <a:xfrm>
            <a:off x="-228600" y="0"/>
            <a:ext cx="931212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752480" y="609480"/>
            <a:ext cx="615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304920"/>
            <a:ext cx="7696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إني الغيثار وأنت اللح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هيا اعزف بي قدر ما تشا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2120828BWPsejpKHE_ph" descr=""/>
          <p:cNvPicPr/>
          <p:nvPr/>
        </p:nvPicPr>
        <p:blipFill>
          <a:blip r:embed="rId1"/>
          <a:stretch/>
        </p:blipFill>
        <p:spPr>
          <a:xfrm>
            <a:off x="-533520" y="-57240"/>
            <a:ext cx="9677520" cy="69152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543800" y="117360"/>
            <a:ext cx="16923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ربي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أ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ورقةٌ بيضاء أرسم عليه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كل ما تشاء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565280"/>
            <a:ext cx="1158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533520"/>
            <a:ext cx="1311120" cy="80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ربي</a:t>
            </a:r>
            <a:r>
              <a:rPr b="1" lang="en-US" sz="40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أنا ورقةٌ بيضاء أرسم عليها كل ما تشا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793880"/>
            <a:ext cx="100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11:04:53Z</dcterms:created>
  <dc:creator>USER</dc:creator>
  <dc:description/>
  <dc:language>en-US</dc:language>
  <cp:lastModifiedBy>USER</cp:lastModifiedBy>
  <dcterms:modified xsi:type="dcterms:W3CDTF">2003-02-21T03:21:33Z</dcterms:modified>
  <cp:revision>4</cp:revision>
  <dc:subject/>
  <dc:title>PowerPoint Presentation</dc:title>
</cp:coreProperties>
</file>